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A56-ED40-4CA6-82DC-ADA1F2D1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17C-E1F1-4E0A-8667-9D65C3D4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BE14-D331-4D74-8B95-093F8955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8C4-2350-4669-B4FC-C4EE2AA6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2D7-64FB-4243-8FB9-7C6CEB15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92B-8EE1-4AF2-82CB-F608F62E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705-D6AA-4795-8756-BFF2F5AB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8C3-ECCD-4F25-8D7F-9DF80D42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ACB-6D53-415A-B404-C2168206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700-093B-4AF2-A9CE-08577029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D05C-A6CD-49C3-8666-E7F11BAC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37C-3D82-43C4-A386-8E4607E0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CC31-68CC-4799-8826-20EEA3A0CDB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5920" y="826920"/>
            <a:ext cx="6597720" cy="28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 vasta rete di canali artificiali che percorreva le terre di Sumer, da nord a sud, era un tesoro prezioso che andava curato e protetto. I canali portavano l’acqua del Tigri e dell’Eufrate fin quasi al deserto, dissetando terre che altrimenti sarebbero rimaste inutilizzabili. I canali alleggerivano le piene primaverili, impedendo ai grandi fiumi di sommergere ogni cosa e di trasformare i campi in paludi acquitrinose. I canali erano strade d’acqua, grazie ai quali ogni genere di merce poteva raggiungere tranquillamente il resto del mondo. I canali erano cibo, commercio e sicurezza, per il popolo delle Teste Nere.  Erano la vi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P. Lanzotti, Le parole magiche di Kengi il pensiero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268280" y="179280"/>
            <a:ext cx="441036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 CANALI A SUM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71280" y="4140360"/>
            <a:ext cx="659772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Quali funzioni svolgevano i canali per i Sumeri? Elen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ome influiva la presenza di acqua sulla vita dei primi uomin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erché, secondo te, il brano si conclude con l’affermazione che i canali per i Sumeri erano la vi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1:45:34Z</dcterms:created>
  <dc:creator>Mauro Carnovali</dc:creator>
  <dc:description/>
  <dc:language>en-US</dc:language>
  <cp:lastModifiedBy>Loredana</cp:lastModifiedBy>
  <dcterms:modified xsi:type="dcterms:W3CDTF">2014-10-20T11:42:14Z</dcterms:modified>
  <cp:revision>1</cp:revision>
  <dc:subject/>
  <dc:title>Diapositiva 1</dc:title>
</cp:coreProperties>
</file>